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CE4-A687-4399-B56B-E3457806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C07-E1BE-4895-B7B4-31F3692E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B8C-12BA-44C0-8EFC-78564F4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D74-590B-4325-A3BF-2A02D019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1C5-B0BF-478F-9113-E8CD82E3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C22-0D3C-4AE0-B2D7-FAD10A5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A36-118A-45D2-BCBE-E522F676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4B64-A410-4875-87F4-5F3E8F54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EEA-ADFA-4F72-81D6-BBFF7109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8D3-8574-4127-A7AA-1CC490F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56A-DC1B-4C3A-AF42-26921406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4D78-5211-4EE4-A7B6-560375CB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86D0-C3AF-45F3-80C0-6621A20C9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Q7qZPLGOwaP8fbZfsAzaddtbNbifoH8MP2McOU0Q-2ykJA9r1FIHTm8TBXH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engu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57909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ndra J and Kelly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WO-PENGUINS-GETTING-MARRI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mar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tumblr_l744uxqK9m1qz56jho1_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bord de mer, Pet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t sa femme aller sur leur lune de miel!!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843360" y="2967120"/>
            <a:ext cx="14572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ANd9GcSWrRAm5DPbrMBa7tSbiLX94hxd6H6hON0EyRh20w2-TrlMYhnaJ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Penguins de trouv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r maison de rê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Nd9GcRZ6QJoQC26bK89f1frMhBODnOQeQ8xaHMP30XTHNKoi-MbF_rTH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finalement Petit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 sa propr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ANd9GcTtGTVtOBQWtSiClVKnmE_tmBSUhRyp1_BDNueOGJ0jErvlw6p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bébé 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rendre à na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pcs.k12.va.us/instruction/science/antarctica/penguin-waving.gif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-360"/>
            <a:ext cx="4800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revoir 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!!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rticle-1239619-07BB1425000005DC-410_964x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t de coucher avec ses am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uverville-island-adult-gentoo-penguin-feeding-baby-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it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nge de la nourriture de sa mère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swimming-penguin-bos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Pingouin prendre son premier b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pepe_brushes_his_teeth_on_the_train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 se brosse les 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Antarctica_Antarctic_Peninsula_Emperor_penguin_RUEF0004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 pas brosse ses cheveu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ANd9GcQHtjE4q1xnYxLLYL7ZqAVCTGK--41M1G8UHswmyzlqXOnaSpM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a à l’éc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Nd9GcQZYx27ZgAIFXgmgcMkJLDhPnKfoB08XZfXfUhPUGOtI_QJRM_l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t grandi, il va à sa première dan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ANd9GcT9Q8TBuQ0aF4dq8B-okPgm_g8Mi_TSc23jrbh9v3683nex0l0qx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i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ngu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ouve l’amour &lt;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51:24Z</dcterms:created>
  <dc:creator>burmankel</dc:creator>
  <dc:description/>
  <dc:language>en-US</dc:language>
  <cp:lastModifiedBy>edill</cp:lastModifiedBy>
  <dcterms:modified xsi:type="dcterms:W3CDTF">2012-03-12T16:05:21Z</dcterms:modified>
  <cp:revision>17</cp:revision>
  <dc:subject/>
  <dc:title>Penguin</dc:title>
</cp:coreProperties>
</file>